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59F-49A9-4E2D-BAA5-4B71D71C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C4F9-1C87-4DC5-A933-6AA50124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FA0-62B6-4A44-B39F-9C3FFEFF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24C-3A6E-4A0F-966D-C524C4D7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CD9-6C5F-4EF4-B9CD-0D667DB1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385A-FFAD-4B34-AE40-2CF5FFAA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331-7C8C-4F16-B6C7-4DADBB00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128-BA05-48C2-BCD3-022843EA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786-C9ED-423E-9C54-B9D314D3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B21-4C5D-4C98-9CB0-1687FA5A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1EB-F49E-4785-A7B3-F4DC7E12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0E1-91DC-417B-8A9D-7A9FDF53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A076-D5C2-4536-B9D0-A34412DCA5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42900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First  Aid Right And Wr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2057400"/>
            <a:ext cx="38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grat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0760" y="304920"/>
            <a:ext cx="862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following descriptions of accidents on page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decide what the  rescuers did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4190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did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360" y="304920"/>
            <a:ext cx="75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hat you have learned about first aid to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y should ha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381880" cy="51811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sh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3240" y="129528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6280" y="274320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one of the situations in the read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 description. In the new descrip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cuer should give first aid in the righ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0:59:38Z</dcterms:created>
  <dc:creator>kkasfjoirfe</dc:creator>
  <dc:description/>
  <dc:language>en-US</dc:language>
  <cp:lastModifiedBy>kkasfjoirfe</cp:lastModifiedBy>
  <dcterms:modified xsi:type="dcterms:W3CDTF">2004-07-18T03:02:30Z</dcterms:modified>
  <cp:revision>5</cp:revision>
  <dc:subject/>
  <dc:title>PowerPoint 演示文稿</dc:title>
</cp:coreProperties>
</file>